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C00-DE10-4803-8227-6A974D9D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945-177E-4AD0-9B9E-CBEF0069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7DB-99C0-47AE-8F67-5526DF3A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464-23D9-4B2B-833D-451F9204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152-75DB-4236-9CBF-C1B8FBEC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1BA-2ACC-4402-8F54-147DE671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131-D95B-4780-9216-D60C6CF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FEC-855D-473E-9B11-91440C15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055-3F1F-4A90-827A-72B89939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761-69C2-4CDC-8A6F-DC902489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667-CE1A-4AB7-8535-7F2A6799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9D6-2E83-4773-8587-773BC150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6D20-4E25-45A6-9D51-D5CF650446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Поремећаји ацидобазне равнотеж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оремећаји метаболизма воде и електролит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боличка ацидоза – без анјонског ј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строинтестинални губици бикарбо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јаре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ренажа панкреасних и танког црева садрж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нална 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ковима индукована хиперкали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уретици који штеде калиј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иметопри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нтами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ЦЕ инхибитори и АР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СА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иклоспорин и такроли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т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ремећаји метаболизма воде и електрол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вол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натр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натр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кали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калием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калц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калц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омеостаза магнезиј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357880" y="333360"/>
            <a:ext cx="3079800" cy="1523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Dies diem doc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Labor praebet quod natura neg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иселине и базе – дефиниција и знач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Јак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аб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спарљив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иксне (метаболичке, неиспарљиве кисели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Јаке б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лабе б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дбрана против нарушавања pH вред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уфе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мене у вентилац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брежни механизми за излучивање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синтезу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уфе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карбонатни пуфер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nderson-Hasselbalchov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једнач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сфатни пуфер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еински пуфер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спираторна регулација ацидобазне равноте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спираторна аци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спираторна алка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езација метаболичких ацидо-базних поремећ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убрежна контрола ацидобазне равноте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креција водоникових јона и реапсорпција бикарбонатних јона бубрежним тубул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зивање вишка водоникових јона фосфатним и амонијачним пуферима у тубулу – механизам стварања нових бикарбонатних ј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цена бубрежне ацидобазне секре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аболичка аци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аболичка алка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ијагноза и врсте поремећ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едноставни ацидо-базни поремећ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шани ацидобазни поремећ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боличка ацидоза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исок анјонски ј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актатна 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ето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јабетич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лкохол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адов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окс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брежна слабост (акутна и хронич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9-08T07:58:01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